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173-4DC2-4AE8-8CED-6F7F2790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A8D-F41B-48AA-88F2-B3789951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BCA-6C45-4CF1-8A78-771E25BB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EC8F-38F4-48E6-A7C3-DCB20410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366-F30E-4B48-B13F-5017393B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FF5-C10D-40F6-B5B4-2FA6D383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C72-6EF4-4962-8591-0311F51D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AAA-B5B3-4C67-A94F-12F37852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A6D-FEFE-4390-B147-7E13F558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0E2-4AE1-4941-AB92-F5894173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491-6D40-4E84-953A-D4797DAB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F68B-1811-4D27-9535-0781BBBF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FB6A-9205-46FC-9EC7-81A59A96C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400" y="3337200"/>
            <a:ext cx="11448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3880" y="457200"/>
            <a:ext cx="4114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fety is no joke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3429000"/>
            <a:ext cx="29574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seguridad no es ninguna bro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609480"/>
            <a:ext cx="6629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seguridad no es ninguna broma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28954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42:47Z</dcterms:created>
  <dc:creator> </dc:creator>
  <dc:description/>
  <dc:language>en-US</dc:language>
  <cp:lastModifiedBy> </cp:lastModifiedBy>
  <dcterms:modified xsi:type="dcterms:W3CDTF">2009-09-21T19:59:36Z</dcterms:modified>
  <cp:revision>2</cp:revision>
  <dc:subject/>
  <dc:title>Slide 1</dc:title>
</cp:coreProperties>
</file>